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3.xml" ContentType="application/vnd.openxmlformats-officedocument.presentationml.comments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aura Lawrie" initials="LL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11-16T08:10:31.290000000" idx="1">
    <p:pos x="5461" y="1373"/>
    <p:text>AU: Please confirm that this is what is meant to be on this slide</p:text>
  </p:cm>
</p:cmLst>
</file>

<file path=ppt/comments/comment31.xml><?xml version="1.0" encoding="utf-8"?>
<p:cmLst xmlns:p="http://schemas.openxmlformats.org/presentationml/2006/main">
  <p:cm authorId="0" dt="2011-11-16T08:11:56.874000000" idx="2">
    <p:pos x="5374" y="2035"/>
    <p:text>AU: Please confirm: this slide and the previous one are exactly the sam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B72-3FFE-4840-BA1A-7B00F319E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E54B-0B82-448F-90E6-AE2C9ED5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ED36-95BE-48EC-BCE0-FDD503C399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: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High-speed transmission of information via light through glass or plastic fi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012-57DF-4EB6-9BE3-83CDD3084A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Internet protocol: TCP/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—HTTP (hyper text transfer protocol), HTML (hypertext markup langu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cally speaking, the Web is made up of an interconnected set of computer servers on the Internet that subscribe to a set of TCP/IP network-interface protocols. These technical protocols include assigning to a website a Uniform Resource Locator (URL) based on its TCP/IP Internet address, which is the website address that web users are familiar wi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AD76-06DF-42EB-872B-4D8477C018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D1D-4627-4C6B-B768-15C3DF0570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-free services are shifting to subscription,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mium,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other monetary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7B16-24C1-4463-8861-EC3514B0C1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Net neutrality: The Internet should not discriminate among the types of content that pass through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Cable and phone companies seek a 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tiered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 system, violating Net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Would make those companies Internet gatekee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3A99-2941-4CA0-82A5-0601C09123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arnoff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value of a network increases linearly the more people are on that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Metcalfe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value of a network rises in proportion to the square of the number of people on that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Reed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utility of a network increases exponenti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F158-9A6B-4500-875E-E026D07838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Modem: MOdulate-DEModulate; converts digital information for trans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Peer-to-peer (P2P): A network in which all participants are equal (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peers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p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Client/server model: Central computer (server) that stores information for cl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2DC-2FC6-40B7-8B3A-838984BBDF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Wireless networks: Use signals similar to radio and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Connectivity: The ability of people and their electronic devices to link to the Internet and other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Quality of service: The reliability, efficiency, and effectiveness of a network conn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331-D1A4-4D4A-B571-9C70DCB7A4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Distributing bits: Sending the 1s and 0s of digital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Low distribution costs: Nothing physical to s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Perfect infinite copies: The source never run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Instantaneous distribution: By avoiding physical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New distribution dynamics: No restrictions on trans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Audience as distribu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9DD-3492-4685-9279-597C9DD187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Nap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Used central 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Argued 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fair use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Open source: A program with source code that can be seen by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8B9-D83B-48F0-A7ED-1F14F290EB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ECCE-609D-4B21-8BAA-E4AB0C95AA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6F8C-C923-4543-A980-0C6BE4EB31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6E22-A808-4F66-B5BE-B50B9760EF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9B6-CAD6-482F-AAFF-F7CFE2AB1A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9D4-74DB-4DFB-BB01-90E1DE7E0E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A66-1667-41EC-8702-58F6A5665F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DCEF-DB88-4398-A0D1-B6C9DBCDA8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ow might things change if the government supports the development of broadband Internet for every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3D6F-4C84-4B06-92AA-70E25A1EAA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406-D511-4114-A004-5FF805629E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BDCE-E109-47E5-99F9-2DB32AAB70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se services need to have guidelines? If so, what? Are guidelines even possi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4B4-D0D6-45BE-9822-25B0E328E2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9F8-28BC-4847-BB4E-D72AF4E1AD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that be paid for and managed? How would it affect the quality of Internet service? What would the social effects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79E2-C441-479F-B116-55873A6EE4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71D-D4FE-4870-95C0-3103222C33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94B-1C67-4210-BEC5-B3F273E982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E70-6B03-4B63-B69F-883B26D77A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54B0-8F90-478E-A328-44ECCAB314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al distribution has gone from a unidirectional model, in the analog world, in which large media companies send out messages to a mass and largely silent audience, to one in which the public can distribute content as widely as an established media company, all without spending money on advertising or marke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041-C3BF-4231-A5DB-F6B1CA62D1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Time-space compression: Networks speed up time and shrink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F0F-31F3-45B1-87FF-4DF950CA0E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Government (postal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os: Public service, universal access, financial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Cons: Bureaucracy, obstacles to 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ivate industry (telegra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os: Rapid technological advances, greater inno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Cons: Competitive chaos, profit-oriented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20E-FED2-4D4D-971E-EC6C573002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Telegraphy — Samuel Mor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and patented the electromagnetic telegraph, which marked the beginning of today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nformation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Telep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lexander Graham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Circuit swit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Packet swit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DC2-EEE3-4058-8E2C-74C2C71E32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Radio, 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Ship-to-ship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irwave as as limited 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Large bandwi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Remote 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441-58E4-4F5A-BACC-CDC9415573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C27-C711-45F1-9BEE-9202823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AB1-1C3F-4894-A2ED-1D12CC73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DAC-BE3C-4921-9689-B529639B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1AB-7F9B-49ED-B4C5-72E76AD1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B670-5834-4604-AF8A-A049E405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DA70-0766-4E52-AF20-00EA6B85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6878-0DFD-4977-B8E0-8057AE3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3D7-AEB4-4703-9CFC-D9497BEF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453-8824-4EB3-B802-A6B92B5B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3316-2BA8-41FD-97ED-06E660A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8DB-109C-4082-9535-5F55173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FA2-4ACD-4528-98ED-CC29EBB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C36E-8117-4F8D-8E74-D32E59B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7DF-1DAA-4071-BF91-64C5A69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9106-C152-4498-8FEE-122F47F7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BEB-0C2F-458C-818F-0A4D5CF3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5968-ADDC-4D90-BA9A-F218F995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066-EFB5-4770-9FE1-4E482284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4EF-7A43-41AD-8923-3ABF95C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733-6165-4850-87DE-E9D0A0A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43E-1099-43BD-B764-6B3B02F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7D5-06DD-4D84-B96E-CF74B2D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416-8C62-4332-91D9-366B2D3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CFC-AFF3-40A2-B1EF-CA0F54D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201-5787-4043-A923-C3B17CD77E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E6D-18C7-4274-B93B-D19AE339B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3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90720" y="91440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4400"/>
            </a:b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ebff"/>
                </a:solidFill>
                <a:latin typeface="Tahoma"/>
              </a:rPr>
              <a:t>A New </a:t>
            </a:r>
            <a:r>
              <a:rPr b="1" lang="en-US" sz="4400" spc="-1" strike="noStrike">
                <a:solidFill>
                  <a:srgbClr val="b7ec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ebff"/>
                </a:solidFill>
                <a:latin typeface="Tahoma"/>
              </a:rPr>
              <a:t>to Mass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295280" y="1752480"/>
            <a:ext cx="73152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Fiber o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Optical tele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Bell</a:t>
            </a:r>
            <a:r>
              <a:rPr b="0" lang="ja-JP" sz="4400" spc="-1" strike="noStrike">
                <a:solidFill>
                  <a:srgbClr val="66ffcc"/>
                </a:solidFill>
                <a:latin typeface="Tahoma"/>
              </a:rPr>
              <a:t>’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s Photoph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Expensive to deliver to all h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- Fi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1"/>
          <p:cNvSpPr/>
          <p:nvPr/>
        </p:nvSpPr>
        <p:spPr>
          <a:xfrm>
            <a:off x="1219320" y="60948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History of Internet and WWW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1752480"/>
            <a:ext cx="731520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RPA creates Advanced Research Projects Agency Network (ARPAnet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nternet protoc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1"/>
          <p:cNvSpPr/>
          <p:nvPr/>
        </p:nvSpPr>
        <p:spPr>
          <a:xfrm>
            <a:off x="1219320" y="60948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History of Internet and WWW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295280" y="1752480"/>
            <a:ext cx="731520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GUI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Mosaic, then Netscap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Internet Explorer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Firefox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Chrom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1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Internet Today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1295280" y="1752480"/>
            <a:ext cx="73152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Decrease in cost of software and hardwar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Increasing trend for rising cost of services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1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Internet Today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1295280" y="1752480"/>
            <a:ext cx="731520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Increasingly intrusive advertising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Net neutrality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Bandwidth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Broadband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The Nature of Network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95280" y="1752480"/>
            <a:ext cx="731520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arnoff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Metcalfe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Reed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Networks: Key Concept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295280" y="1752480"/>
            <a:ext cx="73152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Modem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Peer-to-peer (P2P)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Client/server model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Networks: Key Concept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295280" y="1752480"/>
            <a:ext cx="73152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Wireless networks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Connectivity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Quality of service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1"/>
          <p:cNvSpPr/>
          <p:nvPr/>
        </p:nvSpPr>
        <p:spPr>
          <a:xfrm>
            <a:off x="1219320" y="609480"/>
            <a:ext cx="723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haracteristics of Digital Distribu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95280" y="1752480"/>
            <a:ext cx="7315200" cy="60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Distributing bit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Low distribution cost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Perfect infinite copie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Instantaneous distribution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New distribution dynamic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Audience as distributor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1"/>
          <p:cNvSpPr/>
          <p:nvPr/>
        </p:nvSpPr>
        <p:spPr>
          <a:xfrm>
            <a:off x="1219320" y="609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e-Sharing Serv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295280" y="1752480"/>
            <a:ext cx="73152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P2P networks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Napster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Decentralized file-sharing services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Open source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Networks and Digital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219320" y="609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e Sharing Serv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1295280" y="1752480"/>
            <a:ext cx="73152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Gnutella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Freene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Jabber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BitTorren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Swarming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295280" y="1752480"/>
            <a:ext cx="73152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Leg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 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Fair compens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Watermark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ja-JP" sz="4500" spc="-1" strike="noStrike">
                <a:solidFill>
                  <a:srgbClr val="ffcc66"/>
                </a:solidFill>
                <a:latin typeface="Tahoma"/>
              </a:rPr>
              <a:t>“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Publishing</a:t>
            </a:r>
            <a:r>
              <a:rPr b="0" lang="ja-JP" sz="4500" spc="-1" strike="noStrike">
                <a:solidFill>
                  <a:srgbClr val="ffcc66"/>
                </a:solidFill>
                <a:latin typeface="Tahoma"/>
              </a:rPr>
              <a:t>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Lib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95280" y="1752480"/>
            <a:ext cx="7315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Ethic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Public humili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Invasion of privacy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ja-JP" sz="4500" spc="-1" strike="noStrike">
                <a:solidFill>
                  <a:srgbClr val="66ffcc"/>
                </a:solidFill>
                <a:latin typeface="Tahoma"/>
              </a:rPr>
              <a:t>“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Right to know</a:t>
            </a:r>
            <a:r>
              <a:rPr b="0" lang="ja-JP" sz="4500" spc="-1" strike="noStrike">
                <a:solidFill>
                  <a:srgbClr val="66ffcc"/>
                </a:solidFill>
                <a:latin typeface="Tahoma"/>
              </a:rPr>
              <a:t>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295280" y="1752480"/>
            <a:ext cx="73152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Soci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Global villag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Tribal existenc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Online attack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Unwanted receipt of messag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ussion Question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295280" y="175248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Tahoma"/>
              </a:rPr>
              <a:t>Have you ever mass-forwarded something? What was it? What were the consequences for the people involved — and the recipients?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1295280" y="1752480"/>
            <a:ext cx="73152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How do you think the telecommunication landscape might be different if the U.S. had supported a nationwide telegraph system, instead of relying on private industry to do so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295280" y="1752480"/>
            <a:ext cx="7315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What industries could benefit from the rapid dissemination of information? How and wh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295280" y="1752480"/>
            <a:ext cx="7315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How could our common methods of online communication be improved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1295280" y="1752480"/>
            <a:ext cx="73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What are the social, political, and economic ramifications of such anonymous free information services as Freene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990720" y="2133720"/>
            <a:ext cx="792468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ffcc"/>
                </a:solidFill>
                <a:latin typeface="Tahoma"/>
              </a:rPr>
              <a:t>WELCOME TO MY HOME PAGE !!!!!!!!!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ffcc"/>
                </a:solidFill>
                <a:latin typeface="Tahoma"/>
              </a:rPr>
              <a:t>I KISS YOU !!!!!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95280" y="1752480"/>
            <a:ext cx="7315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Tahoma"/>
              </a:rPr>
              <a:t>How could the digital divide be reduced?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295280" y="1752480"/>
            <a:ext cx="7315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Some cities have used taxpayer dollars to offer wireless Internet access to everyone. Is that a good idea, or a bad one? Why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1295280" y="1752480"/>
            <a:ext cx="731520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Is </a:t>
            </a:r>
            <a:r>
              <a:rPr b="0" lang="ja-JP" sz="47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Net Neutrality</a:t>
            </a:r>
            <a:r>
              <a:rPr b="0" lang="ja-JP" sz="47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 the right approach, or should companies be allowed to make the net faster for some users than for others? Why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Networks and Digital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990720" y="2133720"/>
            <a:ext cx="7924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66ffcc"/>
                </a:solidFill>
                <a:latin typeface="Tahoma"/>
              </a:rPr>
              <a:t>Networked computers have shifted control away from centralized authorities … and toward the rest of us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Digital Distribution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295280" y="1752480"/>
            <a:ext cx="73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00"/>
                </a:solidFill>
                <a:latin typeface="Tahoma"/>
              </a:rPr>
              <a:t>Shift from unidirectional model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00"/>
                </a:solidFill>
                <a:latin typeface="Tahoma"/>
              </a:rPr>
              <a:t>Shift to public, multidirectional system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Historical Influenc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295280" y="1752480"/>
            <a:ext cx="731520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ime-space compress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Speed of communic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ransport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elegraph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elephon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Historical Influenc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295280" y="1752480"/>
            <a:ext cx="73152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Government (postal system)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Private industry (telegraph)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295280" y="1752480"/>
            <a:ext cx="73152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Telegraph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Facsimile (fax)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Telephon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295280" y="1752480"/>
            <a:ext cx="73152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Wireles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Satellite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7:04:45Z</dcterms:created>
  <dc:creator>Shawn McIntosh</dc:creator>
  <dc:description/>
  <dc:language>en-US</dc:language>
  <cp:lastModifiedBy>Technology Support Services</cp:lastModifiedBy>
  <dcterms:modified xsi:type="dcterms:W3CDTF">2013-03-06T00:16:49Z</dcterms:modified>
  <cp:revision>116</cp:revision>
  <dc:subject/>
  <dc:title>Chapter 1</dc:title>
</cp:coreProperties>
</file>